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F25A-3876-439F-B101-D867DD702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AA90-1BD8-497D-AE76-0E3EA39A05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7FB0-CC0A-4D5F-87C2-7FCA63939F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110E-F390-4C29-9074-93CCD265AE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6721-9D53-4F25-82F3-647372B596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E6F9-97CC-4EFC-975B-07DD2D10EC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1BAD-C1F1-46E1-B537-A078476114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4166-5FC5-4605-B85F-5B70BADD16F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BA86-5A23-4254-8DAE-DD5AD1FF17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BCE-B864-4F28-9757-F46A0D0568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A6B6-383D-4B5A-94F7-860CEABFF5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20F3-3E50-464D-AF5D-2812CEC35B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7EE7-205E-4B61-90E4-5B29B8F099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399BD-B17E-4422-A486-F400D12C9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9EA-0A91-4D06-977D-09D94929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95B-E196-4D90-B6AB-07A7D68B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88B-2416-4126-A779-DBCF60A1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8BE-4F39-468D-98D0-BC2988B5A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4E5-587D-43DD-8490-6D79AE79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F387-9329-4102-ACE8-AA917AF8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C8A1-5AEB-4219-8F89-34E8E3A3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773-F41E-46B3-992B-30BF73F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BAE9-79B1-494C-9E8F-04B4456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5BD5F-F233-478D-AA6B-B09328EA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D36F-D5CA-47CC-B619-E1D69738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CC2-9DDA-4D7A-A19A-4BFE07DB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9781-94D5-4640-8579-5E3BC045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5AC1-1297-42CD-A09C-5D19B08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D9FA-A750-4C90-8100-3436A8DC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C78-AE35-40B3-B28D-85A4ECC7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1432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88368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702-3ACC-4AE8-A1A7-9192BA5E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3B82-ECAD-459F-BEFE-D3F68BCE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F355-483B-458A-8D38-6314DF5C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94F6-A0DC-4BE8-AB5F-6096B56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FE2-72C5-4D5E-8226-5EA240B6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74F9-4EB0-4212-9862-BF20D0E7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388368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5D5-E8E7-4A7C-9A08-879E0BE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71432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88368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260-A413-4E5F-819F-DCCA2F19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797440"/>
            <a:ext cx="9167760" cy="1076400"/>
            <a:chOff x="0" y="5797440"/>
            <a:chExt cx="9167760" cy="1076400"/>
          </a:xfrm>
        </p:grpSpPr>
        <p:sp>
          <p:nvSpPr>
            <p:cNvPr id="1" name="Rectangle 3"/>
            <p:cNvSpPr/>
            <p:nvPr/>
          </p:nvSpPr>
          <p:spPr>
            <a:xfrm>
              <a:off x="0" y="5835600"/>
              <a:ext cx="9166320" cy="1020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5797440"/>
              <a:ext cx="9167760" cy="1076400"/>
              <a:chOff x="0" y="5797440"/>
              <a:chExt cx="9167760" cy="107640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0" y="5797440"/>
                <a:ext cx="919080" cy="10764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689040" y="5797440"/>
                <a:ext cx="919080" cy="1076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1395360" y="5797440"/>
                <a:ext cx="920880" cy="1076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103480" y="5797440"/>
                <a:ext cx="919080" cy="107640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811600" y="5797440"/>
                <a:ext cx="919080" cy="10764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517920" y="5797440"/>
                <a:ext cx="920880" cy="10764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206960" y="5797440"/>
                <a:ext cx="919080" cy="107640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915080" y="5797440"/>
                <a:ext cx="919080" cy="107640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41920" y="5797440"/>
                <a:ext cx="919080" cy="10764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6367320" y="5797440"/>
                <a:ext cx="919440" cy="10764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113600" y="5797440"/>
                <a:ext cx="919080" cy="107640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840800" y="5797440"/>
                <a:ext cx="919080" cy="107640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593200" y="6072120"/>
                <a:ext cx="574560" cy="80172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CE1D-5CF2-411F-B16A-471E50C22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5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1" name="Freeform 6"/>
                <p:cNvSpPr/>
                <p:nvPr/>
              </p:nvSpPr>
              <p:spPr>
                <a:xfrm>
                  <a:off x="0" y="5797440"/>
                  <a:ext cx="917640" cy="1076400"/>
                </a:xfrm>
                <a:prstGeom prst="pie">
                  <a:avLst/>
                </a:prstGeom>
                <a:blipFill rotWithShape="0">
                  <a:blip r:embed="rId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7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8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prstGeom prst="pie">
                  <a:avLst/>
                </a:prstGeom>
                <a:blipFill rotWithShape="0">
                  <a:blip r:embed="rId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Freeform 9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5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0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prstGeom prst="pie">
                  <a:avLst/>
                </a:prstGeom>
                <a:blipFill rotWithShape="0">
                  <a:blip r:embed="rId6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Freeform 11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prstGeom prst="pie">
                  <a:avLst/>
                </a:prstGeom>
                <a:blipFill rotWithShape="0">
                  <a:blip r:embed="rId7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Freeform 12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prstGeom prst="pie">
                  <a:avLst/>
                </a:prstGeom>
                <a:blipFill rotWithShape="0">
                  <a:blip r:embed="rId8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3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prstGeom prst="pie">
                  <a:avLst/>
                </a:prstGeom>
                <a:blipFill rotWithShape="0">
                  <a:blip r:embed="rId9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4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prstGeom prst="pie">
                  <a:avLst/>
                </a:prstGeom>
                <a:blipFill rotWithShape="0">
                  <a:blip r:embed="rId10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15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16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17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18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" name="Freeform 19"/>
            <p:cNvSpPr/>
            <p:nvPr/>
          </p:nvSpPr>
          <p:spPr>
            <a:xfrm>
              <a:off x="0" y="2760840"/>
              <a:ext cx="819000" cy="144936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9983-272C-49B1-A89A-8AE241119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GROUP I- CHEMISTRY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STRUCTURE OF THE ATOM” “FORCES WITHIN THE ATOM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By: Edjane T. Wencesla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ss Numb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07960" y="998640"/>
            <a:ext cx="86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ss number is the number of protons and neutrons in the nucleu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733920" y="209700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ss # = p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+  n</a:t>
            </a:r>
            <a:r>
              <a:rPr b="1" lang="en-US" sz="36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09480" y="3125880"/>
          <a:ext cx="8220240" cy="3349440"/>
        </p:xfrm>
        <a:graphic>
          <a:graphicData uri="http://schemas.openxmlformats.org/drawingml/2006/table">
            <a:tbl>
              <a:tblPr/>
              <a:tblGrid>
                <a:gridCol w="3757680"/>
                <a:gridCol w="1017720"/>
                <a:gridCol w="939600"/>
                <a:gridCol w="939960"/>
                <a:gridCol w="1565280"/>
              </a:tblGrid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uclid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36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ss #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ygen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8"/>
          <p:cNvSpPr/>
          <p:nvPr/>
        </p:nvSpPr>
        <p:spPr>
          <a:xfrm>
            <a:off x="4708800" y="41054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49"/>
          <p:cNvSpPr/>
          <p:nvPr/>
        </p:nvSpPr>
        <p:spPr>
          <a:xfrm>
            <a:off x="6580440" y="40924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0"/>
          <p:cNvSpPr/>
          <p:nvPr/>
        </p:nvSpPr>
        <p:spPr>
          <a:xfrm>
            <a:off x="7740000" y="4149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1"/>
          <p:cNvSpPr/>
          <p:nvPr/>
        </p:nvSpPr>
        <p:spPr>
          <a:xfrm>
            <a:off x="2233800" y="39830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2"/>
          <p:cNvSpPr/>
          <p:nvPr/>
        </p:nvSpPr>
        <p:spPr>
          <a:xfrm>
            <a:off x="626400" y="4843440"/>
            <a:ext cx="148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Arsen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53"/>
          <p:cNvSpPr/>
          <p:nvPr/>
        </p:nvSpPr>
        <p:spPr>
          <a:xfrm>
            <a:off x="2495880" y="488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7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4"/>
          <p:cNvSpPr/>
          <p:nvPr/>
        </p:nvSpPr>
        <p:spPr>
          <a:xfrm>
            <a:off x="6490080" y="48848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3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55"/>
          <p:cNvSpPr/>
          <p:nvPr/>
        </p:nvSpPr>
        <p:spPr>
          <a:xfrm>
            <a:off x="7781400" y="4968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61"/>
          <p:cNvSpPr/>
          <p:nvPr/>
        </p:nvSpPr>
        <p:spPr>
          <a:xfrm>
            <a:off x="659160" y="5681520"/>
            <a:ext cx="22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Phosphor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62"/>
          <p:cNvSpPr/>
          <p:nvPr/>
        </p:nvSpPr>
        <p:spPr>
          <a:xfrm>
            <a:off x="6543000" y="5748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63"/>
          <p:cNvSpPr/>
          <p:nvPr/>
        </p:nvSpPr>
        <p:spPr>
          <a:xfrm>
            <a:off x="7754400" y="57610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4"/>
          <p:cNvSpPr/>
          <p:nvPr/>
        </p:nvSpPr>
        <p:spPr>
          <a:xfrm>
            <a:off x="5546880" y="569124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# of neutrons = mass # -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x. LI has a mass number of 7 and an atomic number of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=3 (same as 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= 7-3= 4 (mass #-atomic 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 has a mass number of 20 and an atomic number of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 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 = 20 - 10= 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Determining the number of protons and neutr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about the electron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electrons are equal to the number of prot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o 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p = atomic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:  HE has a mass # of 4 and an atomic # of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p+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8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95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FORCES WITHIN THE ATOM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Times New Roman"/>
              </a:rPr>
              <a:t>S.MORRIS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s the external agency applied on a body to change its state of rest and 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omagnetic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t is the force between charged particles such as the force between two electrons or the force between two current carrying wi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For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 it is the strongest  of all the basic forces of n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23"/>
          <p:cNvSpPr/>
          <p:nvPr/>
        </p:nvSpPr>
        <p:spPr>
          <a:xfrm>
            <a:off x="6172200" y="4724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RCES WITHIN THE ATO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ak Force&gt; is important in certain types of nuclear process such as radioactive dec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vity&gt; it is the weakest force among the fundamental force of nature but has the greatest large- scale impact on the univer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STRUCTURE OF THE ATOM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Times New Roman"/>
              </a:rPr>
              <a:t>S.MORRIS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 is an ato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:  the smallest unit of matter that retains the identity of the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rst proposed by Democrat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Atomic Structu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 are composed of 2 reg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ucleus:  the center of the atom that contains the mass of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 cloud:  region that surrounds the nucleus that contains most of the space in the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5257800" y="4724280"/>
            <a:ext cx="533520" cy="5335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4800600" y="4267080"/>
            <a:ext cx="1447920" cy="1447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5638680" y="4800240"/>
            <a:ext cx="9907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4038120" y="4952880"/>
            <a:ext cx="8384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629400" y="441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ucle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2743200" y="4648320"/>
            <a:ext cx="1523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lou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What’s in the Nucleus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nucleus contains 2 of the 3 subatomic partic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tons:  positive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eutrons:  neutrally charged subatomic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at’s in the Electron Clou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ubatomic particle resides outside of the nucleus in the electron clo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lectron:  the subatomic particle with a negative charge and relatively no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exactly are the particles arranged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hr Model of the at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viewers think this could lead to misconcepti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4"/>
          <p:cNvSpPr/>
          <p:nvPr/>
        </p:nvSpPr>
        <p:spPr>
          <a:xfrm>
            <a:off x="4267080" y="3581280"/>
            <a:ext cx="609840" cy="6098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Oval 5"/>
          <p:cNvSpPr/>
          <p:nvPr/>
        </p:nvSpPr>
        <p:spPr>
          <a:xfrm>
            <a:off x="3886200" y="3200400"/>
            <a:ext cx="1371600" cy="1371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6"/>
          <p:cNvSpPr/>
          <p:nvPr/>
        </p:nvSpPr>
        <p:spPr>
          <a:xfrm>
            <a:off x="3657600" y="2971800"/>
            <a:ext cx="1828800" cy="18288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Oval 7"/>
          <p:cNvSpPr/>
          <p:nvPr/>
        </p:nvSpPr>
        <p:spPr>
          <a:xfrm>
            <a:off x="3429000" y="2743200"/>
            <a:ext cx="2286000" cy="228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Oval 8"/>
          <p:cNvSpPr/>
          <p:nvPr/>
        </p:nvSpPr>
        <p:spPr>
          <a:xfrm>
            <a:off x="3200400" y="2514600"/>
            <a:ext cx="2743200" cy="2743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4723920" y="297180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6553080" y="23623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All of the protons and the neutr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4495680" y="44197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4495680" y="3048120"/>
            <a:ext cx="152640" cy="228600"/>
          </a:xfrm>
          <a:prstGeom prst="ellipse">
            <a:avLst/>
          </a:prstGeom>
          <a:solidFill>
            <a:srgbClr val="9933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87692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5334120" y="3429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4876920" y="2971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Oval 16"/>
          <p:cNvSpPr/>
          <p:nvPr/>
        </p:nvSpPr>
        <p:spPr>
          <a:xfrm>
            <a:off x="4114800" y="45720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Oval 17"/>
          <p:cNvSpPr/>
          <p:nvPr/>
        </p:nvSpPr>
        <p:spPr>
          <a:xfrm>
            <a:off x="3733920" y="32767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Oval 18"/>
          <p:cNvSpPr/>
          <p:nvPr/>
        </p:nvSpPr>
        <p:spPr>
          <a:xfrm>
            <a:off x="4191120" y="289548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34120" y="419112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3657600" y="4114800"/>
            <a:ext cx="152280" cy="2286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655308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22"/>
          <p:cNvSpPr/>
          <p:nvPr/>
        </p:nvSpPr>
        <p:spPr>
          <a:xfrm flipH="1" flipV="1">
            <a:off x="5257800" y="3885840"/>
            <a:ext cx="1295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6172200" y="4724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Line 24"/>
          <p:cNvSpPr/>
          <p:nvPr/>
        </p:nvSpPr>
        <p:spPr>
          <a:xfrm flipH="1" flipV="1">
            <a:off x="5257800" y="4419360"/>
            <a:ext cx="9144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2514600" y="373392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1066680" y="33526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rd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can hold up to 18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1447920" y="434340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e 4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ring and any after can hold up to 32 e</a:t>
            </a:r>
            <a:r>
              <a:rPr b="0" lang="en-US" sz="1800" spc="-1" strike="noStrike" baseline="30000">
                <a:solidFill>
                  <a:srgbClr val="ffffff"/>
                </a:solidFill>
                <a:latin typeface="Comic Sans MS"/>
              </a:rPr>
              <a:t>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29"/>
          <p:cNvSpPr/>
          <p:nvPr/>
        </p:nvSpPr>
        <p:spPr>
          <a:xfrm flipV="1">
            <a:off x="2819520" y="464796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 these particles interact?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3" descr="atom"/>
          <p:cNvPicPr/>
          <p:nvPr/>
        </p:nvPicPr>
        <p:blipFill>
          <a:blip r:embed="rId1"/>
          <a:stretch/>
        </p:blipFill>
        <p:spPr>
          <a:xfrm>
            <a:off x="1600200" y="5335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Atomic Number</a:t>
            </a:r>
            <a:br>
              <a:rPr sz="40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“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omic numb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” of an element is the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number of prot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 the nucleu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# protons in an atom = #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lectron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2989440"/>
          <a:ext cx="8237520" cy="3533760"/>
        </p:xfrm>
        <a:graphic>
          <a:graphicData uri="http://schemas.openxmlformats.org/drawingml/2006/table">
            <a:tbl>
              <a:tblPr/>
              <a:tblGrid>
                <a:gridCol w="2746440"/>
                <a:gridCol w="2744640"/>
                <a:gridCol w="2746440"/>
              </a:tblGrid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prot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# of elect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b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sphor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l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3:16:44Z</dcterms:created>
  <dc:creator> </dc:creator>
  <dc:description/>
  <dc:language>en-US</dc:language>
  <cp:lastModifiedBy>COMPUTER</cp:lastModifiedBy>
  <dcterms:modified xsi:type="dcterms:W3CDTF">2003-01-02T15:41:29Z</dcterms:modified>
  <cp:revision>61</cp:revision>
  <dc:subject/>
  <dc:title>Atomic Structure</dc:title>
</cp:coreProperties>
</file>